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2E49-9CE1-4E8D-8E35-8B2F3AA8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74E-A8EA-470C-AFA9-D23248B8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884A-265F-499D-AE8D-138EE95B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73E-15B0-4D8D-A6DE-3D9CA725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3DD-EBF6-45A1-B833-ED7FFB45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E3BB-B83D-4A28-A400-8FD58E35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17C3-2868-4CA1-BBA3-107F4021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41A3-4894-4AAA-A8F5-29C9A8C3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CF5C-E57A-4994-89CC-D99E8126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E78E-39A9-410F-B426-62031B8A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F6F-714F-412A-94C1-AB9DC1A0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9D5E-5103-4A47-AD71-5DD5D282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DAEE-4BBC-4229-A63D-ADC219923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7" descr="C:\Documents and Settings\koutarou_ishimaru\Local Settings\Temporary Internet Files\Content.IE5\GZABUHMD\MCj04292730000[1].wmf"/>
          <p:cNvPicPr/>
          <p:nvPr/>
        </p:nvPicPr>
        <p:blipFill>
          <a:blip r:embed="rId1"/>
          <a:stretch/>
        </p:blipFill>
        <p:spPr>
          <a:xfrm>
            <a:off x="500040" y="2595600"/>
            <a:ext cx="2286000" cy="1357200"/>
          </a:xfrm>
          <a:prstGeom prst="rect">
            <a:avLst/>
          </a:prstGeom>
          <a:ln w="0">
            <a:noFill/>
          </a:ln>
        </p:spPr>
      </p:pic>
      <p:sp>
        <p:nvSpPr>
          <p:cNvPr id="42" name="雲形吹き出し 54"/>
          <p:cNvSpPr/>
          <p:nvPr/>
        </p:nvSpPr>
        <p:spPr>
          <a:xfrm>
            <a:off x="0" y="1881360"/>
            <a:ext cx="2143080" cy="1071360"/>
          </a:xfrm>
          <a:prstGeom prst="cloudCallout">
            <a:avLst>
              <a:gd name="adj1" fmla="val 7949"/>
              <a:gd name="adj2" fmla="val 81680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農地を相続したんだけど、どうしたらいいの？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9"/>
          <p:cNvSpPr/>
          <p:nvPr/>
        </p:nvSpPr>
        <p:spPr>
          <a:xfrm>
            <a:off x="3643200" y="8400960"/>
            <a:ext cx="2990880" cy="666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44000" bIns="0" anchor="t">
            <a:no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○農業委員会事務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電話　○○○－○○－○○○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25"/>
          <p:cNvSpPr/>
          <p:nvPr/>
        </p:nvSpPr>
        <p:spPr>
          <a:xfrm>
            <a:off x="214200" y="7391520"/>
            <a:ext cx="6429600" cy="7142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手続は簡単です。農業委員会の窓口までお越しください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届出書の様式は裏面のとおりです。</a:t>
            </a:r>
            <a:r>
              <a:rPr b="0" lang="en-US" sz="12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角丸四角形 28"/>
          <p:cNvSpPr/>
          <p:nvPr/>
        </p:nvSpPr>
        <p:spPr>
          <a:xfrm>
            <a:off x="142920" y="523800"/>
            <a:ext cx="4572000" cy="1214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農地</a:t>
            </a:r>
            <a:r>
              <a:rPr b="0" lang="zh-CN" sz="24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を</a:t>
            </a:r>
            <a:r>
              <a:rPr b="0" lang="zh-CN" sz="32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相続</a:t>
            </a:r>
            <a:r>
              <a:rPr b="0" lang="zh-CN" sz="24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したときは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18"/>
          <p:cNvSpPr/>
          <p:nvPr/>
        </p:nvSpPr>
        <p:spPr>
          <a:xfrm>
            <a:off x="3205080" y="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〈農地の相続等の届出のお願い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下矢印 21"/>
          <p:cNvSpPr/>
          <p:nvPr/>
        </p:nvSpPr>
        <p:spPr>
          <a:xfrm>
            <a:off x="2500200" y="4095720"/>
            <a:ext cx="1571760" cy="571680"/>
          </a:xfrm>
          <a:prstGeom prst="down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角丸四角形 24"/>
          <p:cNvSpPr/>
          <p:nvPr/>
        </p:nvSpPr>
        <p:spPr>
          <a:xfrm>
            <a:off x="357120" y="4809960"/>
            <a:ext cx="6215040" cy="15908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 農業委員会では、例えば、相続した方が地元を離れ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て、自分では手入れができない場合に、農地の管理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ついてのご相談や、地元で借り手を探すなどのお手伝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角丸四角形 34"/>
          <p:cNvSpPr/>
          <p:nvPr/>
        </p:nvSpPr>
        <p:spPr>
          <a:xfrm>
            <a:off x="2857680" y="2166840"/>
            <a:ext cx="3786120" cy="17859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地元の</a:t>
            </a:r>
            <a:r>
              <a:rPr b="0" lang="zh-CN" sz="32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農業委員会</a:t>
            </a: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届出</a:t>
            </a: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をお願いし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角丸四角形 37"/>
          <p:cNvSpPr/>
          <p:nvPr/>
        </p:nvSpPr>
        <p:spPr>
          <a:xfrm>
            <a:off x="142920" y="6400800"/>
            <a:ext cx="6715080" cy="9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農地法の改正により、相続などによる農地の権利取得を農業委員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がきちんと把握し、農地の有効利用に努めます</a:t>
            </a: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2960" y="61920"/>
            <a:ext cx="6267600" cy="664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6370560"/>
            <a:ext cx="62676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uchi5</cp:lastModifiedBy>
  <dcterms:modified xsi:type="dcterms:W3CDTF">2009-11-26T06:36:4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