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8DE1-C8FB-48C6-87B5-FF7B579C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5311-CB55-4429-A459-B5B97788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9C45-ABA0-4C96-8249-C718A181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F274-3979-41BF-85C0-13AC31ED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A699-F386-468D-B1AD-0EC5D779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DC46-E651-4F55-BB5A-88136DCA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7601-E2C3-49E9-8DDA-813EB6BC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ED2E-DF0C-4112-9318-51A7E309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2840-28E1-4973-883C-12A282F6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1E8E-FCCF-44F4-85BE-0FF4C625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6EBF-A83C-4497-B4B5-A77AC639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55C9-E523-42A7-AF80-21CF0C1D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A401-4335-4C87-A63D-27D831DA3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04640" y="200160"/>
            <a:ext cx="3529080" cy="341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8000"/>
                </a:solidFill>
                <a:latin typeface="ＭＳ ゴシック"/>
              </a:rPr>
              <a:t>農地情報提供システム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latin typeface="ＭＳ ゴシック"/>
              <a:ea typeface="ＭＳ ゴシック"/>
            </a:endParaRPr>
          </a:p>
        </p:txBody>
      </p:sp>
      <p:sp>
        <p:nvSpPr>
          <p:cNvPr id="42" name=""/>
          <p:cNvSpPr/>
          <p:nvPr/>
        </p:nvSpPr>
        <p:spPr>
          <a:xfrm>
            <a:off x="189000" y="8685360"/>
            <a:ext cx="6480000" cy="116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08640" y="8769240"/>
            <a:ext cx="20872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お問い合わ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全国農業会議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el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03-6910-11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Fa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03-3261-5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04640" y="725400"/>
            <a:ext cx="6019920" cy="1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1" strike="noStrike">
                <a:ln w="0">
                  <a:noFill/>
                </a:ln>
                <a:solidFill>
                  <a:srgbClr val="ff6600"/>
                </a:solidFill>
                <a:latin typeface="ＭＳ Ｐ明朝"/>
              </a:rPr>
              <a:t>貸したい・売りたい農地の情報を広く収集・提供し、農地の有効利用を図ります。</a:t>
            </a:r>
            <a:endParaRPr b="0" lang="en-US" sz="1400" spc="1" strike="noStrike">
              <a:ln w="0">
                <a:noFill/>
              </a:ln>
              <a:solidFill>
                <a:srgbClr val="ff6600"/>
              </a:solidFill>
              <a:latin typeface="ＭＳ Ｐ明朝"/>
              <a:ea typeface="ＭＳ Ｐ明朝"/>
            </a:endParaRPr>
          </a:p>
        </p:txBody>
      </p:sp>
      <p:sp>
        <p:nvSpPr>
          <p:cNvPr id="45" name=""/>
          <p:cNvSpPr/>
          <p:nvPr/>
        </p:nvSpPr>
        <p:spPr>
          <a:xfrm>
            <a:off x="333360" y="8912160"/>
            <a:ext cx="367200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貸したい・売りたい農地の情報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ご登録ください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9000" y="5457960"/>
            <a:ext cx="2232000" cy="316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noAutofit/>
          </a:bodyPr>
          <a:p>
            <a:pPr marL="181080" indent="-181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農地情報の登録等について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　貸したい・売りたい農地の情報をインターネットで登録でき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　農地の登記簿上の所有者、所在地等を確認の上、システムに掲載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　所有者氏名・連絡先、農地の字・地番は、個人情報保護の観点から掲載しません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　掲載している農地に利用問い合わせがあったら紹介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　貸借・売買に必要な法律知識・手続などについてアドバイスするほか、現地見学への立会なども行い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　最終的な交渉、契約は当事者間で行うことになりますが、契約等がスムーズに行われるよう支援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92280" y="5457960"/>
            <a:ext cx="4176720" cy="316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37000" y="5816520"/>
            <a:ext cx="1726920" cy="2449440"/>
          </a:xfrm>
          <a:custGeom>
            <a:avLst/>
            <a:gdLst>
              <a:gd name="textAreaLeft" fmla="*/ 84240 w 1726920"/>
              <a:gd name="textAreaRight" fmla="*/ 1642680 w 1726920"/>
              <a:gd name="textAreaTop" fmla="*/ 84240 h 2449440"/>
              <a:gd name="textAreaBottom" fmla="*/ 2365200 h 2449440"/>
            </a:gdLst>
            <a:ahLst/>
            <a:rect l="textAreaLeft" t="textAreaTop" r="textAreaRight" b="textAreaBottom"/>
            <a:pathLst>
              <a:path w="21600" h="30635">
                <a:moveTo>
                  <a:pt x="3600" y="0"/>
                </a:moveTo>
                <a:arcTo wR="3600" hR="3600" stAng="16200000" swAng="-5400000"/>
                <a:lnTo>
                  <a:pt x="0" y="27035"/>
                </a:lnTo>
                <a:arcTo wR="3600" hR="3600" stAng="10800000" swAng="-5400000"/>
                <a:lnTo>
                  <a:pt x="18000" y="30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貸出・売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農地情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08280" y="6496200"/>
            <a:ext cx="1584360" cy="1562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ＭＳ Ｐ明朝"/>
              </a:rPr>
              <a:t>所在地（大字まで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ＭＳ Ｐ明朝"/>
              </a:rPr>
              <a:t>地目、面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ＭＳ Ｐ明朝"/>
              </a:rPr>
              <a:t>現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ＭＳ Ｐ明朝"/>
              </a:rPr>
              <a:t>隣接道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ＭＳ Ｐ明朝"/>
              </a:rPr>
              <a:t>契約条件（価格、賃借料、貸借期間等）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ＭＳ Ｐ明朝"/>
              </a:rPr>
              <a:t>　　　　　　　　　　　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8640" y="5888160"/>
            <a:ext cx="2016000" cy="100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賃借料情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53000" y="6186600"/>
            <a:ext cx="1800360" cy="294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ＭＳ Ｐ明朝"/>
              </a:rPr>
              <a:t>市町村ごとの地目別・利用状況別の平均賃借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8640" y="7040520"/>
            <a:ext cx="2016000" cy="1225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その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53000" y="7275600"/>
            <a:ext cx="172728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10000"/>
              </a:lnSpc>
              <a:spcBef>
                <a:spcPts val="150"/>
              </a:spcBef>
              <a:buClr>
                <a:srgbClr val="000000"/>
              </a:buClr>
              <a:buFont typeface="ＭＳ Ｐ明朝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新規就農者受入支援情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10000"/>
              </a:lnSpc>
              <a:spcBef>
                <a:spcPts val="150"/>
              </a:spcBef>
              <a:buClr>
                <a:srgbClr val="000000"/>
              </a:buClr>
              <a:buFont typeface="ＭＳ Ｐ明朝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農地の売買・貸借に関する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Q&amp;A</a:t>
            </a:r>
            <a:r>
              <a:rPr b="0" lang="zh-CN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341360" y="4881600"/>
            <a:ext cx="417672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ff"/>
                </a:solidFill>
                <a:latin typeface="ＭＳ Ｐ明朝"/>
              </a:rPr>
              <a:t>システムには次のような情報を掲載します。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latin typeface="ＭＳ Ｐ明朝"/>
              <a:ea typeface="ＭＳ Ｐ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ff"/>
                </a:solidFill>
                <a:latin typeface="ＭＳ Ｐ明朝"/>
              </a:rPr>
              <a:t>インターネットで情報を登録、閲覧できます。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latin typeface="ＭＳ Ｐ明朝"/>
              <a:ea typeface="ＭＳ Ｐ明朝"/>
            </a:endParaRPr>
          </a:p>
        </p:txBody>
      </p:sp>
      <p:sp>
        <p:nvSpPr>
          <p:cNvPr id="55" name=""/>
          <p:cNvSpPr/>
          <p:nvPr/>
        </p:nvSpPr>
        <p:spPr>
          <a:xfrm>
            <a:off x="404640" y="1136520"/>
            <a:ext cx="1656000" cy="2808360"/>
          </a:xfrm>
          <a:prstGeom prst="rect">
            <a:avLst/>
          </a:prstGeom>
          <a:solidFill>
            <a:srgbClr val="ffffff"/>
          </a:solidFill>
          <a:ln w="64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21000" y="1136520"/>
            <a:ext cx="2089080" cy="2783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7720" y="2378160"/>
            <a:ext cx="1511280" cy="307080"/>
          </a:xfrm>
          <a:prstGeom prst="rect">
            <a:avLst/>
          </a:prstGeom>
          <a:gradFill rotWithShape="0">
            <a:gsLst>
              <a:gs pos="0">
                <a:srgbClr val="f1fef1"/>
              </a:gs>
              <a:gs pos="100000">
                <a:srgbClr val="ccffcc"/>
              </a:gs>
            </a:gsLst>
            <a:lin ang="5400000"/>
          </a:gra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農業委員会、市町村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7720" y="3170160"/>
            <a:ext cx="1511280" cy="307080"/>
          </a:xfrm>
          <a:prstGeom prst="rect">
            <a:avLst/>
          </a:prstGeom>
          <a:gradFill rotWithShape="0">
            <a:gsLst>
              <a:gs pos="0">
                <a:srgbClr val="f1fef1"/>
              </a:gs>
              <a:gs pos="100000">
                <a:srgbClr val="ccffcc"/>
              </a:gs>
            </a:gsLst>
            <a:lin ang="5400000"/>
          </a:gra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農業公社（保有農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40280" y="1141560"/>
            <a:ext cx="1584360" cy="1220400"/>
          </a:xfrm>
          <a:prstGeom prst="rect">
            <a:avLst/>
          </a:prstGeom>
          <a:gradFill rotWithShape="0">
            <a:gsLst>
              <a:gs pos="0">
                <a:srgbClr val="ebf5f6"/>
              </a:gs>
              <a:gs pos="100000">
                <a:srgbClr val="bbe0e3"/>
              </a:gs>
            </a:gsLst>
            <a:lin ang="5400000"/>
          </a:gradFill>
          <a:ln w="64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農地を使いた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個人、農業法人、企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・規模拡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・新規参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・田舎暮らし　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3720" y="4405320"/>
            <a:ext cx="1511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見学、交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43768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記、引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65360" y="2720880"/>
            <a:ext cx="1800360" cy="966960"/>
          </a:xfrm>
          <a:prstGeom prst="ellipse">
            <a:avLst/>
          </a:pr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農地情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システ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4" idx="3"/>
            <a:endCxn id="62" idx="2"/>
          </p:cNvCxnSpPr>
          <p:nvPr/>
        </p:nvCxnSpPr>
        <p:spPr>
          <a:xfrm>
            <a:off x="1989000" y="1712520"/>
            <a:ext cx="576720" cy="1492200"/>
          </a:xfrm>
          <a:prstGeom prst="bentConnector3">
            <a:avLst>
              <a:gd name="adj1" fmla="val 49906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"/>
          <p:cNvCxnSpPr>
            <a:stCxn id="57" idx="3"/>
            <a:endCxn id="62" idx="2"/>
          </p:cNvCxnSpPr>
          <p:nvPr/>
        </p:nvCxnSpPr>
        <p:spPr>
          <a:xfrm>
            <a:off x="1989000" y="2531520"/>
            <a:ext cx="576720" cy="673200"/>
          </a:xfrm>
          <a:prstGeom prst="bentConnector3">
            <a:avLst>
              <a:gd name="adj1" fmla="val 49906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"/>
          <p:cNvCxnSpPr>
            <a:stCxn id="62" idx="6"/>
            <a:endCxn id="59" idx="1"/>
          </p:cNvCxnSpPr>
          <p:nvPr/>
        </p:nvCxnSpPr>
        <p:spPr>
          <a:xfrm flipV="1">
            <a:off x="4365720" y="1751760"/>
            <a:ext cx="574920" cy="1452960"/>
          </a:xfrm>
          <a:prstGeom prst="bentConnector3">
            <a:avLst>
              <a:gd name="adj1" fmla="val 50125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"/>
          <p:cNvSpPr/>
          <p:nvPr/>
        </p:nvSpPr>
        <p:spPr>
          <a:xfrm>
            <a:off x="3645000" y="1496880"/>
            <a:ext cx="1368360" cy="2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農地利用問い合わ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41720" y="120816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紹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89000" y="3513240"/>
            <a:ext cx="100836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・公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60640" y="1495440"/>
            <a:ext cx="7189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53000" y="2736720"/>
            <a:ext cx="108108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農地情報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賃借料情報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受入支援情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提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65360" y="1496880"/>
            <a:ext cx="100800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内容確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7174080" y="4592520"/>
            <a:ext cx="0" cy="15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292280" y="1712880"/>
            <a:ext cx="64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292640" y="1712880"/>
            <a:ext cx="1440" cy="122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1136520"/>
            <a:ext cx="2735280" cy="155880"/>
          </a:xfrm>
          <a:prstGeom prst="leftRightArrow">
            <a:avLst>
              <a:gd name="adj1" fmla="val 42648"/>
              <a:gd name="adj2" fmla="val 1191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59" idx="2"/>
            <a:endCxn id="60" idx="0"/>
          </p:cNvCxnSpPr>
          <p:nvPr/>
        </p:nvCxnSpPr>
        <p:spPr>
          <a:xfrm rot="5400000">
            <a:off x="2568960" y="1242360"/>
            <a:ext cx="2043720" cy="4283280"/>
          </a:xfrm>
          <a:prstGeom prst="bentConnector3">
            <a:avLst>
              <a:gd name="adj1" fmla="val 50088"/>
            </a:avLst>
          </a:prstGeom>
          <a:ln w="12600">
            <a:solidFill>
              <a:srgbClr val="0000ff"/>
            </a:solidFill>
            <a:prstDash val="dash"/>
            <a:miter/>
            <a:tailEnd len="sm" type="arrow" w="lg"/>
          </a:ln>
        </p:spPr>
      </p:cxnSp>
      <p:sp>
        <p:nvSpPr>
          <p:cNvPr id="78" name=""/>
          <p:cNvSpPr/>
          <p:nvPr/>
        </p:nvSpPr>
        <p:spPr>
          <a:xfrm>
            <a:off x="1268280" y="3944880"/>
            <a:ext cx="0" cy="457200"/>
          </a:xfrm>
          <a:prstGeom prst="line">
            <a:avLst/>
          </a:prstGeom>
          <a:ln w="12600">
            <a:solidFill>
              <a:srgbClr val="008000"/>
            </a:solidFill>
            <a:prstDash val="dash"/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1496880"/>
            <a:ext cx="289080" cy="216000"/>
          </a:xfrm>
          <a:prstGeom prst="rightArrow">
            <a:avLst>
              <a:gd name="adj1" fmla="val 42407"/>
              <a:gd name="adj2" fmla="val 615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rot="21580200">
            <a:off x="2421000" y="1496880"/>
            <a:ext cx="288720" cy="216000"/>
          </a:xfrm>
          <a:prstGeom prst="rightArrow">
            <a:avLst>
              <a:gd name="adj1" fmla="val 42407"/>
              <a:gd name="adj2" fmla="val 614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148280" y="314280"/>
            <a:ext cx="23050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008000"/>
                </a:solidFill>
                <a:latin typeface="Times New Roman"/>
              </a:rPr>
              <a:t>http://agri.nca.or.jp/</a:t>
            </a:r>
            <a:endParaRPr b="0" lang="en-US" sz="1400" spc="1" strike="noStrike">
              <a:ln w="0">
                <a:noFill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07920" y="2090880"/>
            <a:ext cx="100836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情報把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5000" y="2019240"/>
            <a:ext cx="0" cy="358920"/>
          </a:xfrm>
          <a:prstGeom prst="line">
            <a:avLst/>
          </a:prstGeom>
          <a:ln w="12600">
            <a:solidFill>
              <a:srgbClr val="008000"/>
            </a:solidFill>
            <a:prstDash val="dash"/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7720" y="1430280"/>
            <a:ext cx="1511280" cy="564480"/>
          </a:xfrm>
          <a:prstGeom prst="rect">
            <a:avLst/>
          </a:prstGeom>
          <a:gradFill rotWithShape="0">
            <a:gsLst>
              <a:gs pos="0">
                <a:srgbClr val="f1fef1"/>
              </a:gs>
              <a:gs pos="100000">
                <a:srgbClr val="ccffcc"/>
              </a:gs>
            </a:gsLst>
            <a:lin ang="5400000"/>
          </a:gra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農地を貸したい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売りたい所有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9000" y="344016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rot="21475200">
            <a:off x="2131920" y="5745240"/>
            <a:ext cx="792360" cy="576360"/>
          </a:xfrm>
          <a:custGeom>
            <a:avLst/>
            <a:gdLst>
              <a:gd name="textAreaLeft" fmla="*/ -360 w 792360"/>
              <a:gd name="textAreaRight" fmla="*/ 792360 w 792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8697" y="19064"/>
                </a:moveTo>
                <a:arcTo wR="-8527" hR="-8527" stAng="6256645" swAng="-6256645"/>
                <a:lnTo>
                  <a:pt x="0" y="10800"/>
                </a:lnTo>
                <a:arcTo wR="10800" hR="10800" stAng="10800000" swAng="6256645"/>
                <a:lnTo>
                  <a:pt x="14129" y="-2283"/>
                </a:lnTo>
                <a:lnTo>
                  <a:pt x="16901" y="2381"/>
                </a:lnTo>
                <a:lnTo>
                  <a:pt x="12237" y="5153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65360" y="2144880"/>
            <a:ext cx="1008000" cy="2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賃借料情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65360" y="2433600"/>
            <a:ext cx="1008000" cy="2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受入支援情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16280" y="2073240"/>
            <a:ext cx="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16280" y="2289240"/>
            <a:ext cx="7192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入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8280" y="1784520"/>
            <a:ext cx="1512720" cy="307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全国農業会議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44640" y="45212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21000" y="4433760"/>
            <a:ext cx="1728720" cy="15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権利の設定・移転のための手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19560" y="45212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76640" y="4578480"/>
            <a:ext cx="20160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（契約、農地法に基づく許可申請など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920" y="0"/>
            <a:ext cx="61722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農地情報提供システム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agri.nca.or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20640" y="560520"/>
            <a:ext cx="58327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ＭＳ ゴシック"/>
              </a:rPr>
              <a:t>貸したい・売りたい農地の情報を収集・提供し、地域の農地の有効利用を目指します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ＭＳ ゴシック"/>
              <a:ea typeface="ＭＳ ゴシック"/>
            </a:endParaRPr>
          </a:p>
        </p:txBody>
      </p:sp>
      <p:sp>
        <p:nvSpPr>
          <p:cNvPr id="97" name=""/>
          <p:cNvSpPr/>
          <p:nvPr/>
        </p:nvSpPr>
        <p:spPr>
          <a:xfrm>
            <a:off x="203400" y="920880"/>
            <a:ext cx="423720" cy="3024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農地所有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97000" y="920880"/>
            <a:ext cx="4321080" cy="302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9000" y="2865600"/>
            <a:ext cx="266400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92280" y="315288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農地情報提供システ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全国農業会議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57360" y="992160"/>
            <a:ext cx="3743280" cy="832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市町村、農業委員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→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遊休農地対策、新規就農事業、農地バンク事業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の地域の独自事業の情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農地情報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565360" y="178416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68280" y="2216160"/>
            <a:ext cx="1081080" cy="246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パスワードの発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9360" y="2432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21000" y="2144880"/>
            <a:ext cx="1224000" cy="477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農地登録、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その他情報提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05360" y="23605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75440" y="920880"/>
            <a:ext cx="393480" cy="30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農地利用希望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農家・企業・新規就農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53000" y="2936880"/>
            <a:ext cx="1297080" cy="936720"/>
          </a:xfrm>
          <a:prstGeom prst="leftRightArrow">
            <a:avLst>
              <a:gd name="adj1" fmla="val 50000"/>
              <a:gd name="adj2" fmla="val 27566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322416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情報提供・利用問い合わせ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0640" y="1136520"/>
            <a:ext cx="936720" cy="9367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5000" y="1496880"/>
            <a:ext cx="72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情報把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97" idx="2"/>
            <a:endCxn id="107" idx="2"/>
          </p:cNvCxnSpPr>
          <p:nvPr/>
        </p:nvCxnSpPr>
        <p:spPr>
          <a:xfrm flipH="1" rot="16200000">
            <a:off x="3331800" y="1019520"/>
            <a:ext cx="2520" cy="5852520"/>
          </a:xfrm>
          <a:prstGeom prst="bentConnector3">
            <a:avLst>
              <a:gd name="adj1" fmla="val 143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1916280" y="43052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農地情報の提供・交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57720" y="41608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76280" y="4665600"/>
            <a:ext cx="590544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ＭＳ ゴシック"/>
              </a:rPr>
              <a:t>地域の独自政策において、農地情報提供システムの活用が可能です。</a:t>
            </a:r>
            <a:endParaRPr b="0" lang="en-US" sz="1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ＭＳ ゴシック"/>
              <a:ea typeface="ＭＳ ゴシック"/>
            </a:endParaRPr>
          </a:p>
        </p:txBody>
      </p:sp>
      <p:sp>
        <p:nvSpPr>
          <p:cNvPr id="116" name=""/>
          <p:cNvSpPr/>
          <p:nvPr/>
        </p:nvSpPr>
        <p:spPr>
          <a:xfrm>
            <a:off x="115920" y="4952880"/>
            <a:ext cx="2663640" cy="280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地域の独自事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遊休農地解消事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農地バンク事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新規就農支援事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農地利用集積円滑化事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農業参入企業の誘致事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24280" y="4952880"/>
            <a:ext cx="3744720" cy="2808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提供可能な情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農地情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遊休農地等の新たな担い手を確保したい農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農地利用集積円滑化団体に委託された農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・個人情報保護の観点から個人が特定される情報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公開しませ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地域内における新規就農支援事業等の情報提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農業参入企業の誘致情報の提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農地情報等の提供において、利用希望者の制限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の情報等、独自のシステム運用が可能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21000" y="5816520"/>
            <a:ext cx="576360" cy="865440"/>
          </a:xfrm>
          <a:custGeom>
            <a:avLst/>
            <a:gdLst>
              <a:gd name="textAreaLeft" fmla="*/ 90000 w 576360"/>
              <a:gd name="textAreaRight" fmla="*/ 504360 w 576360"/>
              <a:gd name="textAreaTop" fmla="*/ 216360 h 865440"/>
              <a:gd name="textAreaBottom" fmla="*/ 649080 h 865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5920" y="7905600"/>
            <a:ext cx="6626160" cy="1271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独自運用事例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市で運用する空き農地情報提供事業において、農地情報提供システムを活用し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における物件の詳細情報の公開を行ってい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市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より、登録物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当該物件の農地情報提供システ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P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対するリンクを設定し公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84280" y="9201240"/>
            <a:ext cx="51832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お問い合わ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全国農業会議所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el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03-6910-1123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Fa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03-3261-5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05360" y="18572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2:03:23Z</dcterms:created>
  <dc:creator> </dc:creator>
  <dc:description/>
  <dc:language>en-US</dc:language>
  <cp:lastModifiedBy>nouchi5</cp:lastModifiedBy>
  <dcterms:modified xsi:type="dcterms:W3CDTF">2010-09-17T02:08:20Z</dcterms:modified>
  <cp:revision>74</cp:revision>
  <dc:subject/>
  <dc:title>スライド 1</dc:title>
</cp:coreProperties>
</file>