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6BA-8E69-49A1-A975-2DA2C0E7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9A7-0732-4946-A348-37755155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E29-936D-4E77-BF8C-A472F54A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670-3B6F-4BDC-8F28-16E90B51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539-59BD-46ED-8579-33CC08C1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494-56AE-4C84-8461-FE7B66C3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EC6-7E33-4C36-8C2C-8CC821A6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DEE-F645-4D2D-81A2-3437C2F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2AF-AD81-4F8C-BC21-031E45FF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87F-CE9F-45BC-914E-C41F0BC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1B1-EA47-4D5D-85C2-DF20BAF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D64-4CA3-4D28-9238-71B963E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2D3C-1FE2-4E2D-9CF1-C2ED57ED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4640" y="200160"/>
            <a:ext cx="3529080" cy="34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8000"/>
                </a:solidFill>
                <a:latin typeface="ＭＳ ゴシック"/>
              </a:rPr>
              <a:t>農地情報提供システム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ＭＳ ゴシック"/>
              <a:ea typeface="ＭＳ ゴシック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8685360"/>
            <a:ext cx="6480000" cy="116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8769240"/>
            <a:ext cx="208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4640" y="725400"/>
            <a:ext cx="6019920" cy="1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6600"/>
                </a:solidFill>
                <a:latin typeface="ＭＳ Ｐ明朝"/>
              </a:rPr>
              <a:t>貸したい・売りたい農地の情報を広く収集・提供し、農地の有効利用を図ります。</a:t>
            </a:r>
            <a:endParaRPr b="0" lang="en-US" sz="1400" spc="1" strike="noStrike">
              <a:ln w="0">
                <a:noFill/>
              </a:ln>
              <a:solidFill>
                <a:srgbClr val="ff6600"/>
              </a:solidFill>
              <a:latin typeface="ＭＳ Ｐ明朝"/>
              <a:ea typeface="ＭＳ Ｐ明朝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8912160"/>
            <a:ext cx="3672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貸したい・売りたい農地の情報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ご登録ください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000" y="5457960"/>
            <a:ext cx="2232000" cy="316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Autofit/>
          </a:bodyPr>
          <a:p>
            <a:pPr marL="181080" indent="-181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農地情報の登録等について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貸したい・売りたい農地の情報をインターネットで登録でき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農地の登記簿上の所有者、所在地等を確認の上、システムに掲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所有者氏名・連絡先、農地の字・地番は、個人情報保護の観点から掲載しません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掲載している農地に利用問い合わせがあったら紹介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貸借・売買に必要な法律知識・手続などについてアドバイスするほか、現地見学への立会なども行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最終的な交渉、契約は当事者間で行うことになりますが、契約等がスムーズに行われるよう支援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2280" y="5457960"/>
            <a:ext cx="4176720" cy="316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37000" y="5816520"/>
            <a:ext cx="1726920" cy="2449440"/>
          </a:xfrm>
          <a:custGeom>
            <a:avLst/>
            <a:gdLst>
              <a:gd name="textAreaLeft" fmla="*/ 84240 w 1726920"/>
              <a:gd name="textAreaRight" fmla="*/ 1642680 w 1726920"/>
              <a:gd name="textAreaTop" fmla="*/ 84240 h 2449440"/>
              <a:gd name="textAreaBottom" fmla="*/ 2365200 h 2449440"/>
            </a:gdLst>
            <a:ahLst/>
            <a:rect l="textAreaLeft" t="textAreaTop" r="textAreaRight" b="textAreaBottom"/>
            <a:pathLst>
              <a:path w="21600" h="30635">
                <a:moveTo>
                  <a:pt x="3600" y="0"/>
                </a:moveTo>
                <a:arcTo wR="3600" hR="3600" stAng="16200000" swAng="-5400000"/>
                <a:lnTo>
                  <a:pt x="0" y="27035"/>
                </a:lnTo>
                <a:arcTo wR="3600" hR="3600" stAng="10800000" swAng="-5400000"/>
                <a:lnTo>
                  <a:pt x="18000" y="30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貸出・売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8280" y="6496200"/>
            <a:ext cx="1584360" cy="1562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所在地（大字まで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地目、面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現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隣接道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契約条件（価格、賃借料、貸借期間等）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　　　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8640" y="5888160"/>
            <a:ext cx="201600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53000" y="6186600"/>
            <a:ext cx="1800360" cy="294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市町村ごとの地目別・利用状況別の平均賃借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8640" y="7040520"/>
            <a:ext cx="2016000" cy="1225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53000" y="7275600"/>
            <a:ext cx="17272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新規就農者受入支援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農地の売買・貸借に関する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Q&amp;A</a:t>
            </a:r>
            <a:r>
              <a:rPr b="0" lang="zh-CN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41360" y="4881600"/>
            <a:ext cx="41767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システムには次のような情報を掲載し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インターネットで情報を登録、閲覧でき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</p:txBody>
      </p:sp>
      <p:sp>
        <p:nvSpPr>
          <p:cNvPr id="55" name=""/>
          <p:cNvSpPr/>
          <p:nvPr/>
        </p:nvSpPr>
        <p:spPr>
          <a:xfrm>
            <a:off x="404640" y="1136520"/>
            <a:ext cx="1656000" cy="2808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1000" y="1136520"/>
            <a:ext cx="2089080" cy="278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7720" y="2378160"/>
            <a:ext cx="1511280" cy="307080"/>
          </a:xfrm>
          <a:prstGeom prst="rect">
            <a:avLst/>
          </a:prstGeom>
          <a:gradFill rotWithShape="0">
            <a:gsLst>
              <a:gs pos="0">
                <a:srgbClr val="f1fef1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業委員会、市町村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7720" y="3170160"/>
            <a:ext cx="1511280" cy="307080"/>
          </a:xfrm>
          <a:prstGeom prst="rect">
            <a:avLst/>
          </a:prstGeom>
          <a:gradFill rotWithShape="0">
            <a:gsLst>
              <a:gs pos="0">
                <a:srgbClr val="f1fef1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業公社（保有農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40280" y="1141560"/>
            <a:ext cx="1584360" cy="1220400"/>
          </a:xfrm>
          <a:prstGeom prst="rect">
            <a:avLst/>
          </a:prstGeom>
          <a:gradFill rotWithShape="0">
            <a:gsLst>
              <a:gs pos="0">
                <a:srgbClr val="ebf5f6"/>
              </a:gs>
              <a:gs pos="100000">
                <a:srgbClr val="bbe0e3"/>
              </a:gs>
            </a:gsLst>
            <a:lin ang="5400000"/>
          </a:gra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を使いた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個人、農業法人、企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規模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新規参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田舎暮らし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720" y="4405320"/>
            <a:ext cx="151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見学、交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376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記、引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65360" y="2720880"/>
            <a:ext cx="1800360" cy="966960"/>
          </a:xfrm>
          <a:prstGeom prst="ellipse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4" idx="3"/>
            <a:endCxn id="62" idx="2"/>
          </p:cNvCxnSpPr>
          <p:nvPr/>
        </p:nvCxnSpPr>
        <p:spPr>
          <a:xfrm>
            <a:off x="1989000" y="1712520"/>
            <a:ext cx="576720" cy="1492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"/>
          <p:cNvCxnSpPr>
            <a:stCxn id="57" idx="3"/>
            <a:endCxn id="62" idx="2"/>
          </p:cNvCxnSpPr>
          <p:nvPr/>
        </p:nvCxnSpPr>
        <p:spPr>
          <a:xfrm>
            <a:off x="1989000" y="2531520"/>
            <a:ext cx="576720" cy="673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"/>
          <p:cNvCxnSpPr>
            <a:stCxn id="62" idx="6"/>
            <a:endCxn id="59" idx="1"/>
          </p:cNvCxnSpPr>
          <p:nvPr/>
        </p:nvCxnSpPr>
        <p:spPr>
          <a:xfrm flipV="1">
            <a:off x="4365720" y="1751760"/>
            <a:ext cx="574920" cy="1452960"/>
          </a:xfrm>
          <a:prstGeom prst="bentConnector3">
            <a:avLst>
              <a:gd name="adj1" fmla="val 5012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3645000" y="1496880"/>
            <a:ext cx="136836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農地利用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41720" y="12081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9000" y="351324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・公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60640" y="1495440"/>
            <a:ext cx="7189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53000" y="2736720"/>
            <a:ext cx="10810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農地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賃借料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65360" y="1496880"/>
            <a:ext cx="10080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174080" y="459252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92280" y="1712880"/>
            <a:ext cx="64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292640" y="1712880"/>
            <a:ext cx="144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1136520"/>
            <a:ext cx="2735280" cy="155880"/>
          </a:xfrm>
          <a:prstGeom prst="leftRightArrow">
            <a:avLst>
              <a:gd name="adj1" fmla="val 42648"/>
              <a:gd name="adj2" fmla="val 1191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59" idx="2"/>
            <a:endCxn id="60" idx="0"/>
          </p:cNvCxnSpPr>
          <p:nvPr/>
        </p:nvCxnSpPr>
        <p:spPr>
          <a:xfrm rot="5400000">
            <a:off x="2568960" y="1242360"/>
            <a:ext cx="2043720" cy="4283280"/>
          </a:xfrm>
          <a:prstGeom prst="bentConnector3">
            <a:avLst>
              <a:gd name="adj1" fmla="val 50088"/>
            </a:avLst>
          </a:prstGeom>
          <a:ln w="12600">
            <a:solidFill>
              <a:srgbClr val="0000ff"/>
            </a:solidFill>
            <a:prstDash val="dash"/>
            <a:miter/>
            <a:tailEnd len="sm" type="arrow" w="lg"/>
          </a:ln>
        </p:spPr>
      </p:cxnSp>
      <p:sp>
        <p:nvSpPr>
          <p:cNvPr id="78" name=""/>
          <p:cNvSpPr/>
          <p:nvPr/>
        </p:nvSpPr>
        <p:spPr>
          <a:xfrm>
            <a:off x="1268280" y="39448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496880"/>
            <a:ext cx="289080" cy="216000"/>
          </a:xfrm>
          <a:prstGeom prst="rightArrow">
            <a:avLst>
              <a:gd name="adj1" fmla="val 42407"/>
              <a:gd name="adj2" fmla="val 615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21580200">
            <a:off x="2421000" y="1496880"/>
            <a:ext cx="288720" cy="216000"/>
          </a:xfrm>
          <a:prstGeom prst="rightArrow">
            <a:avLst>
              <a:gd name="adj1" fmla="val 42407"/>
              <a:gd name="adj2" fmla="val 61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8280" y="314280"/>
            <a:ext cx="2305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8000"/>
                </a:solidFill>
                <a:latin typeface="Times New Roman"/>
              </a:rPr>
              <a:t>http://agri.nca.or.jp/</a:t>
            </a:r>
            <a:endParaRPr b="0" lang="en-US" sz="1400" spc="1" strike="noStrike">
              <a:ln w="0">
                <a:noFill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7920" y="209088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5000" y="2019240"/>
            <a:ext cx="0" cy="3589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7720" y="1430280"/>
            <a:ext cx="1511280" cy="564480"/>
          </a:xfrm>
          <a:prstGeom prst="rect">
            <a:avLst/>
          </a:prstGeom>
          <a:gradFill rotWithShape="0">
            <a:gsLst>
              <a:gs pos="0">
                <a:srgbClr val="f1fef1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を貸したい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売りたい所有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9000" y="3440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21475200">
            <a:off x="2131920" y="5745240"/>
            <a:ext cx="792360" cy="57636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8697" y="19064"/>
                </a:moveTo>
                <a:arcTo wR="-8527" hR="-8527" stAng="6256645" swAng="-6256645"/>
                <a:lnTo>
                  <a:pt x="0" y="10800"/>
                </a:lnTo>
                <a:arcTo wR="10800" hR="10800" stAng="10800000" swAng="6256645"/>
                <a:lnTo>
                  <a:pt x="14129" y="-2283"/>
                </a:lnTo>
                <a:lnTo>
                  <a:pt x="16901" y="2381"/>
                </a:lnTo>
                <a:lnTo>
                  <a:pt x="12237" y="515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65360" y="214488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65360" y="243360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16280" y="207324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6280" y="2289240"/>
            <a:ext cx="7192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8280" y="1784520"/>
            <a:ext cx="151272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全国農業会議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21000" y="4433760"/>
            <a:ext cx="1728720" cy="1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権利の設定・移転のための手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956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6640" y="4578480"/>
            <a:ext cx="2016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契約、農地法に基づく許可申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6172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農地情報提供システム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gri.nca.or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0640" y="560520"/>
            <a:ext cx="5832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貸したい・売りたい農地の情報を収集・提供し、地域の農地の有効利用を目指します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97" name=""/>
          <p:cNvSpPr/>
          <p:nvPr/>
        </p:nvSpPr>
        <p:spPr>
          <a:xfrm>
            <a:off x="203400" y="920880"/>
            <a:ext cx="423720" cy="30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所有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97000" y="920880"/>
            <a:ext cx="4321080" cy="30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2865600"/>
            <a:ext cx="2664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92280" y="31528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全国農業会議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7360" y="992160"/>
            <a:ext cx="3743280" cy="83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市町村、農業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遊休農地対策、新規就農事業、農地バンク事業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の地域の独自事業の情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情報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65360" y="17841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8280" y="2216160"/>
            <a:ext cx="1081080" cy="246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パスワードの発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9360" y="243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21000" y="2144880"/>
            <a:ext cx="1224000" cy="477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農地登録、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その他情報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5360" y="23605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5440" y="920880"/>
            <a:ext cx="39348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利用希望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家・企業・新規就農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53000" y="2936880"/>
            <a:ext cx="1297080" cy="936720"/>
          </a:xfrm>
          <a:prstGeom prst="leftRightArrow">
            <a:avLst>
              <a:gd name="adj1" fmla="val 50000"/>
              <a:gd name="adj2" fmla="val 2756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322416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情報提供・利用問い合わ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640" y="1136520"/>
            <a:ext cx="936720" cy="936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5000" y="1496880"/>
            <a:ext cx="7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97" idx="2"/>
            <a:endCxn id="107" idx="2"/>
          </p:cNvCxnSpPr>
          <p:nvPr/>
        </p:nvCxnSpPr>
        <p:spPr>
          <a:xfrm flipH="1" rot="16200000">
            <a:off x="3331800" y="1019520"/>
            <a:ext cx="2520" cy="585252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916280" y="43052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農地情報の提供・交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7720" y="4160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6280" y="4665600"/>
            <a:ext cx="59054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地域の独自政策において、農地情報提供システムの活用が可能です。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116" name=""/>
          <p:cNvSpPr/>
          <p:nvPr/>
        </p:nvSpPr>
        <p:spPr>
          <a:xfrm>
            <a:off x="115920" y="4952880"/>
            <a:ext cx="2663640" cy="28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地域の独自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遊休農地解消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バンク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規就農支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利用集積円滑化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業参入企業の誘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24280" y="4952880"/>
            <a:ext cx="3744720" cy="28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提供可能な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遊休農地等の新たな担い手を確保したい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利用集積円滑化団体に委託された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個人情報保護の観点から個人が特定される情報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公開しませ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域内における新規就農支援事業等の情報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業参入企業の誘致情報の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情報等の提供において、利用希望者の制限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の情報等、独自のシステム運用が可能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21000" y="5816520"/>
            <a:ext cx="576360" cy="865440"/>
          </a:xfrm>
          <a:custGeom>
            <a:avLst/>
            <a:gdLst>
              <a:gd name="textAreaLeft" fmla="*/ 90000 w 576360"/>
              <a:gd name="textAreaRight" fmla="*/ 504360 w 576360"/>
              <a:gd name="textAreaTop" fmla="*/ 216360 h 865440"/>
              <a:gd name="textAreaBottom" fmla="*/ 649080 h 86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5920" y="7905600"/>
            <a:ext cx="6626160" cy="127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独自運用事例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市で運用する空き農地情報提供事業において、農地情報提供システムを活用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おける物件の詳細情報の公開を行っ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市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より、登録物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該物件の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対するリンクを設定し公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84280" y="9201240"/>
            <a:ext cx="5183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05360" y="18572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2:03:23Z</dcterms:created>
  <dc:creator> </dc:creator>
  <dc:description/>
  <dc:language>en-US</dc:language>
  <cp:lastModifiedBy>nouchi5</cp:lastModifiedBy>
  <dcterms:modified xsi:type="dcterms:W3CDTF">2010-09-17T02:08:20Z</dcterms:modified>
  <cp:revision>74</cp:revision>
  <dc:subject/>
  <dc:title>スライド 1</dc:title>
</cp:coreProperties>
</file>