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9F9-2AEF-4655-A873-1FCE330A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1CA-7D33-4B18-AC17-F909650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62B-97EB-4A52-AF9E-FD324E13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6CF-969F-4586-AE07-2F86D1FD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4C2-2708-4C9B-A9CF-452E3C9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616-3BDD-417E-9544-36E9E80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6BF-BD99-4963-8803-D5F0AAE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09D-D30C-4821-8F73-014EDFCF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526-19F0-4300-B91B-1A60CEC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98F-9CE8-4C37-8E21-CE66BB2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ED7-6372-435B-AB83-DDA94A3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47E-6312-4A72-BA94-4CC170A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942-8AF6-4A7B-B931-21D5BB08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6"/>
          <p:cNvSpPr/>
          <p:nvPr/>
        </p:nvSpPr>
        <p:spPr>
          <a:xfrm rot="5400000">
            <a:off x="1646280" y="4245120"/>
            <a:ext cx="419040" cy="72360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600"/>
              <a:gd name="textAreaBottom" fmla="*/ 512640 h 72360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228600" y="76320"/>
            <a:ext cx="6400800" cy="990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57200" y="228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農業委員会事務局における日常業務推進上の課題・問題点の把握とＱ＆Ａづくりのフロー（概略・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552600" y="1419120"/>
            <a:ext cx="2666880" cy="486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課題・問題点の整理・記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552600" y="2536920"/>
            <a:ext cx="2666880" cy="4809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収　　　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565200" y="3665520"/>
            <a:ext cx="2666880" cy="5428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課題等リストの整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565200" y="5326200"/>
            <a:ext cx="2654280" cy="465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具体的な対応の記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552600" y="6391440"/>
            <a:ext cx="2666880" cy="4759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収　　　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542880" y="7404120"/>
            <a:ext cx="26668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収集・整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828960" y="7392960"/>
            <a:ext cx="266724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所管課等への照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552600" y="8534520"/>
            <a:ext cx="2666880" cy="4572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整理・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77800" y="114300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42880" y="2286000"/>
            <a:ext cx="104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会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11200" y="3390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会議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69800" y="4197240"/>
            <a:ext cx="29592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会議経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フィードバ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課題等への具体的な対応を行ってい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52600" y="611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会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77800" y="70293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会議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2"/>
          <p:cNvSpPr/>
          <p:nvPr/>
        </p:nvSpPr>
        <p:spPr>
          <a:xfrm rot="5400000">
            <a:off x="1656720" y="1823760"/>
            <a:ext cx="419040" cy="72396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960"/>
              <a:gd name="textAreaBottom" fmla="*/ 513000 h 72396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4"/>
          <p:cNvSpPr/>
          <p:nvPr/>
        </p:nvSpPr>
        <p:spPr>
          <a:xfrm>
            <a:off x="3295800" y="7334280"/>
            <a:ext cx="457200" cy="304920"/>
          </a:xfrm>
          <a:custGeom>
            <a:avLst/>
            <a:gdLst>
              <a:gd name="textAreaLeft" fmla="*/ 71280 w 457200"/>
              <a:gd name="textAreaRight" fmla="*/ 414360 w 457200"/>
              <a:gd name="textAreaTop" fmla="*/ 88920 h 304920"/>
              <a:gd name="textAreaBottom" fmla="*/ 216000 h 30492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5"/>
          <p:cNvSpPr/>
          <p:nvPr/>
        </p:nvSpPr>
        <p:spPr>
          <a:xfrm rot="5400000">
            <a:off x="1648800" y="2990520"/>
            <a:ext cx="419040" cy="72396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960"/>
              <a:gd name="textAreaBottom" fmla="*/ 513000 h 72396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 rot="5400000">
            <a:off x="1646280" y="5732640"/>
            <a:ext cx="419040" cy="72360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600"/>
              <a:gd name="textAreaBottom" fmla="*/ 512640 h 72360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 rot="5400000">
            <a:off x="1646280" y="6762960"/>
            <a:ext cx="419040" cy="72360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600"/>
              <a:gd name="textAreaBottom" fmla="*/ 512640 h 72360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 rot="5400000">
            <a:off x="1656720" y="7924680"/>
            <a:ext cx="419040" cy="723960"/>
          </a:xfrm>
          <a:custGeom>
            <a:avLst/>
            <a:gdLst>
              <a:gd name="textAreaLeft" fmla="*/ 65520 w 419040"/>
              <a:gd name="textAreaRight" fmla="*/ 379800 w 419040"/>
              <a:gd name="textAreaTop" fmla="*/ 210960 h 723960"/>
              <a:gd name="textAreaBottom" fmla="*/ 513000 h 72396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0"/>
          <p:cNvSpPr/>
          <p:nvPr/>
        </p:nvSpPr>
        <p:spPr>
          <a:xfrm rot="10800000">
            <a:off x="3295800" y="7639200"/>
            <a:ext cx="457200" cy="304560"/>
          </a:xfrm>
          <a:custGeom>
            <a:avLst/>
            <a:gdLst>
              <a:gd name="textAreaLeft" fmla="*/ 71280 w 457200"/>
              <a:gd name="textAreaRight" fmla="*/ 414360 w 457200"/>
              <a:gd name="textAreaTop" fmla="*/ 88920 h 304560"/>
              <a:gd name="textAreaBottom" fmla="*/ 215640 h 304560"/>
            </a:gdLst>
            <a:ahLst/>
            <a:rect l="textAreaLeft" t="textAreaTop" r="textAreaRight" b="textAreaBottom"/>
            <a:pathLst>
              <a:path w="21600" h="21600">
                <a:moveTo>
                  <a:pt x="16714" y="0"/>
                </a:moveTo>
                <a:lnTo>
                  <a:pt x="16714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6714" y="15300"/>
                </a:lnTo>
                <a:lnTo>
                  <a:pt x="16714" y="21600"/>
                </a:lnTo>
                <a:lnTo>
                  <a:pt x="21600" y="10800"/>
                </a:lnTo>
                <a:lnTo>
                  <a:pt x="16714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3762360" y="1143000"/>
            <a:ext cx="1828800" cy="609480"/>
          </a:xfrm>
          <a:prstGeom prst="wedgeEllipseCallout">
            <a:avLst>
              <a:gd name="adj1" fmla="val -83680"/>
              <a:gd name="adj2" fmla="val 52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７月上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3782880" y="2232000"/>
            <a:ext cx="1828800" cy="609480"/>
          </a:xfrm>
          <a:prstGeom prst="wedgeEllipseCallout">
            <a:avLst>
              <a:gd name="adj1" fmla="val -83680"/>
              <a:gd name="adj2" fmla="val 52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７月下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4"/>
          <p:cNvSpPr/>
          <p:nvPr/>
        </p:nvSpPr>
        <p:spPr>
          <a:xfrm>
            <a:off x="3741840" y="3529080"/>
            <a:ext cx="1828800" cy="609480"/>
          </a:xfrm>
          <a:prstGeom prst="wedgeEllipseCallout">
            <a:avLst>
              <a:gd name="adj1" fmla="val -83680"/>
              <a:gd name="adj2" fmla="val 40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８月上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"/>
          <p:cNvSpPr/>
          <p:nvPr/>
        </p:nvSpPr>
        <p:spPr>
          <a:xfrm>
            <a:off x="3763800" y="4915080"/>
            <a:ext cx="1828800" cy="609480"/>
          </a:xfrm>
          <a:prstGeom prst="wedgeEllipseCallout">
            <a:avLst>
              <a:gd name="adj1" fmla="val -83680"/>
              <a:gd name="adj2" fmla="val 52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９月上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6"/>
          <p:cNvSpPr/>
          <p:nvPr/>
        </p:nvSpPr>
        <p:spPr>
          <a:xfrm>
            <a:off x="3741840" y="5884920"/>
            <a:ext cx="1828800" cy="609480"/>
          </a:xfrm>
          <a:prstGeom prst="wedgeEllipseCallout">
            <a:avLst>
              <a:gd name="adj1" fmla="val -83680"/>
              <a:gd name="adj2" fmla="val 52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９月中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7"/>
          <p:cNvSpPr/>
          <p:nvPr/>
        </p:nvSpPr>
        <p:spPr>
          <a:xfrm>
            <a:off x="3753000" y="6743880"/>
            <a:ext cx="1828800" cy="590400"/>
          </a:xfrm>
          <a:prstGeom prst="wedgeEllipseCallout">
            <a:avLst>
              <a:gd name="adj1" fmla="val -87500"/>
              <a:gd name="adj2" fmla="val 6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９月下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3741840" y="8115480"/>
            <a:ext cx="1904760" cy="609480"/>
          </a:xfrm>
          <a:prstGeom prst="wedgeEllipseCallout">
            <a:avLst>
              <a:gd name="adj1" fmla="val -82333"/>
              <a:gd name="adj2" fmla="val 75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～２月下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kahashi</dc:creator>
  <dc:description/>
  <dc:language>en-US</dc:language>
  <cp:lastModifiedBy>takahashi</cp:lastModifiedBy>
  <dcterms:modified xsi:type="dcterms:W3CDTF">2012-06-06T04:46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